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749-DBC6-445A-84B1-B1A3714D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E09-D87F-4BA3-B018-E5A5AA8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FD1-AF77-4B61-9B92-67BF5B35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96A-7D33-4142-B59E-0060416B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AB1-18D1-42FB-AED6-CB0B6919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1B7-A592-4245-878E-259631C8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35B-7E14-4A0D-BE55-67C84689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FEC-B2A7-4588-9F48-60489390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9D1-7881-4FB3-BC63-D932C8B5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096-B63A-41CE-AC8B-9C07ECCF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A0A-2ADA-46D0-A4EF-FCB25B57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951-4A98-42B3-93D9-9B2DB9F7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7387-2E6A-4122-BADB-9D30CB506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’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0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5335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63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24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0" y="1219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3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63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6324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5867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0" y="5410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0" y="5638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63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63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0" y="5181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0" y="4952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0" y="4724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352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réal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0" y="472752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ersonnes concer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867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095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0" y="6094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0" y="6095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0" y="66294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0600" y="495288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nsul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00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01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0" y="1600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63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981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0" y="1981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63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362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0" y="2362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743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1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0" y="2743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124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0" y="3124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05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01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1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0" y="3505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763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86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01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1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0" y="3886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763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267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0" y="4267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62940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mité de pilotage (X) dans les cases correspond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</dc:creator>
  <dc:description/>
  <dc:language>en-US</dc:language>
  <cp:lastModifiedBy>rochas</cp:lastModifiedBy>
  <cp:lastPrinted>2000-05-11T10:17:14Z</cp:lastPrinted>
  <dcterms:modified xsi:type="dcterms:W3CDTF">2004-04-01T13:42:18Z</dcterms:modified>
  <cp:revision>70</cp:revision>
  <dc:subject/>
  <dc:title>Contrôle interne des risques</dc:title>
</cp:coreProperties>
</file>